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5A48-46C6-4EB5-8294-8B91FA14D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740E-1030-4AB6-B93F-ACCC5F7C9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B999-2EC3-4080-A94C-EBBAABA3A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7223-FF11-403B-8A02-C0186FA9B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989C-F941-4785-AB10-3D2B36A29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BF55-8559-47FB-968F-32AF374F7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C981-F9AB-4A0D-8330-F2412EF52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D3A9-0972-49A5-9B14-C9428BB85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BFA0-7151-439B-8271-95AF93F35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2E11-4064-40DD-B21D-1C1100DAE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A246-AED5-407C-B111-D3902E039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063F-8C78-42AD-BE7E-E0C11D6F5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E055-60C4-45FD-80CB-0E018289C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60A2-1112-4F85-85EE-044C73574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E83E-CB6F-4BD5-94AC-7955895B2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8868-898C-4B1C-B710-15916A916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A243-F6DF-4E0C-84A7-EA52A8BAF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AC0F-EB06-405D-A6CF-6CAED5AEE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011-73BD-4CBA-8C5F-53C2E979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5CF-B661-446E-93A6-3BB6A9DF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26D-9363-4BA3-8820-E45D59CC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D75-5284-4451-905D-83658040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43A-D568-4AC7-ADF0-9BFAD430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D75-35A7-401B-BF5C-FDA487C0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20E-3844-4DE3-8370-9218CD29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D93-09E0-415F-B36F-18E1ACB2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E16-48A9-43A0-9A3E-1A373D35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FFC-169B-4A99-92F4-ECF35EA7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F64-C7B0-4ACA-811F-09E76A38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4F9-90E8-4CC7-936C-2D4DCC90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3C62-CF71-4560-AB2A-775FA5496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92 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bush41.jpg"/>
          <p:cNvPicPr/>
          <p:nvPr/>
        </p:nvPicPr>
        <p:blipFill>
          <a:blip r:embed="rId1"/>
          <a:stretch/>
        </p:blipFill>
        <p:spPr>
          <a:xfrm>
            <a:off x="838080" y="1905120"/>
            <a:ext cx="1981440" cy="231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linton2.bmp"/>
          <p:cNvPicPr/>
          <p:nvPr/>
        </p:nvPicPr>
        <p:blipFill>
          <a:blip r:embed="rId2"/>
          <a:stretch/>
        </p:blipFill>
        <p:spPr>
          <a:xfrm>
            <a:off x="3429000" y="18288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erot.bmp"/>
          <p:cNvPicPr/>
          <p:nvPr/>
        </p:nvPicPr>
        <p:blipFill>
          <a:blip r:embed="rId3"/>
          <a:stretch/>
        </p:blipFill>
        <p:spPr>
          <a:xfrm>
            <a:off x="6400800" y="1752480"/>
            <a:ext cx="2209680" cy="249732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38080" y="48769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rge B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505320" y="48769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 Clin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cr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6324480" y="48769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ss Per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orm P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92 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1992 election.bmp"/>
          <p:cNvPicPr/>
          <p:nvPr/>
        </p:nvPicPr>
        <p:blipFill>
          <a:blip r:embed="rId1"/>
          <a:stretch/>
        </p:blipFill>
        <p:spPr>
          <a:xfrm>
            <a:off x="1930320" y="1981080"/>
            <a:ext cx="5232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ll Clin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5" descr="clinton3.jpg"/>
          <p:cNvPicPr/>
          <p:nvPr/>
        </p:nvPicPr>
        <p:blipFill>
          <a:blip r:embed="rId1"/>
          <a:stretch/>
        </p:blipFill>
        <p:spPr>
          <a:xfrm>
            <a:off x="457200" y="1523880"/>
            <a:ext cx="400860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4952880" y="1295280"/>
            <a:ext cx="3657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vernor of Arkans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n womaniz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tempted to create a national health car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ted by conservatives who launched multiple investigations attempting to dig up dirt on h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erm noted for economic growth and government surpl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did not have sexual relations with that woman, Miss Lewinsky…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clinton4.jpg"/>
          <p:cNvPicPr/>
          <p:nvPr/>
        </p:nvPicPr>
        <p:blipFill>
          <a:blip r:embed="rId1"/>
          <a:stretch/>
        </p:blipFill>
        <p:spPr>
          <a:xfrm>
            <a:off x="1066680" y="1981080"/>
            <a:ext cx="3353040" cy="391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lewinsky.jpg"/>
          <p:cNvPicPr/>
          <p:nvPr/>
        </p:nvPicPr>
        <p:blipFill>
          <a:blip r:embed="rId2"/>
          <a:stretch/>
        </p:blipFill>
        <p:spPr>
          <a:xfrm>
            <a:off x="5715000" y="2133720"/>
            <a:ext cx="26100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ewinsky Sca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lewinsky2.jpg"/>
          <p:cNvPicPr/>
          <p:nvPr/>
        </p:nvPicPr>
        <p:blipFill>
          <a:blip r:embed="rId1"/>
          <a:stretch/>
        </p:blipFill>
        <p:spPr>
          <a:xfrm>
            <a:off x="228600" y="1981080"/>
            <a:ext cx="2457360" cy="328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lewinsky3.jpg"/>
          <p:cNvPicPr/>
          <p:nvPr/>
        </p:nvPicPr>
        <p:blipFill>
          <a:blip r:embed="rId2"/>
          <a:stretch/>
        </p:blipFill>
        <p:spPr>
          <a:xfrm>
            <a:off x="3124080" y="1600200"/>
            <a:ext cx="267336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ewinsky4.jpg"/>
          <p:cNvPicPr/>
          <p:nvPr/>
        </p:nvPicPr>
        <p:blipFill>
          <a:blip r:embed="rId3"/>
          <a:stretch/>
        </p:blipFill>
        <p:spPr>
          <a:xfrm>
            <a:off x="3733920" y="4419720"/>
            <a:ext cx="136836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linton5.jpg"/>
          <p:cNvPicPr/>
          <p:nvPr/>
        </p:nvPicPr>
        <p:blipFill>
          <a:blip r:embed="rId4"/>
          <a:stretch/>
        </p:blipFill>
        <p:spPr>
          <a:xfrm>
            <a:off x="6095880" y="2438280"/>
            <a:ext cx="28018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ll Clin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5" descr="clinton4.jpg"/>
          <p:cNvPicPr/>
          <p:nvPr/>
        </p:nvPicPr>
        <p:blipFill>
          <a:blip r:embed="rId1"/>
          <a:stretch/>
        </p:blipFill>
        <p:spPr>
          <a:xfrm>
            <a:off x="609480" y="1981080"/>
            <a:ext cx="3273480" cy="3824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4572000" y="1600200"/>
            <a:ext cx="4191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s investigated for perjury and obstruction of justice relating to the Lewinsky aff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was impeached by the House, but not convicted by the Se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 attempts at striking Al-Qaeda were dismissed by Republicans as trying to distract public attention from the Lewinsky scand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the scandal, Gore tries to distance himself from Clinton when he runs for President in 20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3" descr="y2k.jpg"/>
          <p:cNvPicPr/>
          <p:nvPr/>
        </p:nvPicPr>
        <p:blipFill>
          <a:blip r:embed="rId1"/>
          <a:stretch/>
        </p:blipFill>
        <p:spPr>
          <a:xfrm>
            <a:off x="2133720" y="685800"/>
            <a:ext cx="50292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2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y2k2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72000" cy="2752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80880" y="411480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s programmed with only 2 digits for the year were supposed to crash as the year turned from 1999 to 20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were fears that nuclear missiles could launch due to the computer b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llions stocked up on supplies and prepared for the end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 of the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beck1.jpg"/>
          <p:cNvPicPr/>
          <p:nvPr/>
        </p:nvPicPr>
        <p:blipFill>
          <a:blip r:embed="rId1"/>
          <a:stretch/>
        </p:blipFill>
        <p:spPr>
          <a:xfrm>
            <a:off x="4648320" y="3868560"/>
            <a:ext cx="416232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odelay1.jpg"/>
          <p:cNvPicPr/>
          <p:nvPr/>
        </p:nvPicPr>
        <p:blipFill>
          <a:blip r:embed="rId2"/>
          <a:stretch/>
        </p:blipFill>
        <p:spPr>
          <a:xfrm>
            <a:off x="609480" y="1523880"/>
            <a:ext cx="3581640" cy="3602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800600" y="15238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It’s A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ased in 199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clinton1.jpg"/>
          <p:cNvPicPr/>
          <p:nvPr/>
        </p:nvPicPr>
        <p:blipFill>
          <a:blip r:embed="rId1"/>
          <a:stretch/>
        </p:blipFill>
        <p:spPr>
          <a:xfrm>
            <a:off x="457200" y="838080"/>
            <a:ext cx="3316320" cy="243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n64a.bmp"/>
          <p:cNvPicPr/>
          <p:nvPr/>
        </p:nvPicPr>
        <p:blipFill>
          <a:blip r:embed="rId2"/>
          <a:stretch/>
        </p:blipFill>
        <p:spPr>
          <a:xfrm>
            <a:off x="4495680" y="1676520"/>
            <a:ext cx="1866960" cy="125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n64b.jpg"/>
          <p:cNvPicPr/>
          <p:nvPr/>
        </p:nvPicPr>
        <p:blipFill>
          <a:blip r:embed="rId3"/>
          <a:stretch/>
        </p:blipFill>
        <p:spPr>
          <a:xfrm>
            <a:off x="6629400" y="114300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ollythe sheep.jpg"/>
          <p:cNvPicPr/>
          <p:nvPr/>
        </p:nvPicPr>
        <p:blipFill>
          <a:blip r:embed="rId4"/>
          <a:stretch/>
        </p:blipFill>
        <p:spPr>
          <a:xfrm>
            <a:off x="228600" y="4267080"/>
            <a:ext cx="2827440" cy="177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osamabinladen.jpg"/>
          <p:cNvPicPr/>
          <p:nvPr/>
        </p:nvPicPr>
        <p:blipFill>
          <a:blip r:embed="rId5"/>
          <a:stretch/>
        </p:blipFill>
        <p:spPr>
          <a:xfrm>
            <a:off x="3352680" y="3733920"/>
            <a:ext cx="1886040" cy="242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tupac hologram.jpg"/>
          <p:cNvPicPr/>
          <p:nvPr/>
        </p:nvPicPr>
        <p:blipFill>
          <a:blip r:embed="rId6"/>
          <a:stretch/>
        </p:blipFill>
        <p:spPr>
          <a:xfrm>
            <a:off x="5410080" y="3962520"/>
            <a:ext cx="34718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al History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may choose to work in a group of no more than th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may choose to work a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tudent who works in a group MUST turn in a journal of their contribution to th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are in your groups, spend the next fifteen minutes brainstorming ideas for your interview su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What caused the Watergate scand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What happened in Iran in 1979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What political party did Ronald Reagan belong t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What was Roe v. Wa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Name two reasons why communism began to die in the Soviet U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What is the best ‘80s movie of all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1980’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saddam rumsfeld.jpg"/>
          <p:cNvPicPr/>
          <p:nvPr/>
        </p:nvPicPr>
        <p:blipFill>
          <a:blip r:embed="rId1"/>
          <a:stretch/>
        </p:blipFill>
        <p:spPr>
          <a:xfrm>
            <a:off x="45720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osamabinladen2.jpg"/>
          <p:cNvPicPr/>
          <p:nvPr/>
        </p:nvPicPr>
        <p:blipFill>
          <a:blip r:embed="rId2"/>
          <a:stretch/>
        </p:blipFill>
        <p:spPr>
          <a:xfrm>
            <a:off x="380880" y="43434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4267080" y="1600200"/>
            <a:ext cx="4419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re to keep communism in check led America to make friends with some bad d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ddam Huss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ama Bin La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e enemy of my enemy is my friend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 Desert St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iraq.jpg"/>
          <p:cNvPicPr/>
          <p:nvPr/>
        </p:nvPicPr>
        <p:blipFill>
          <a:blip r:embed="rId1"/>
          <a:stretch/>
        </p:blipFill>
        <p:spPr>
          <a:xfrm>
            <a:off x="838080" y="1981080"/>
            <a:ext cx="3249720" cy="3505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4572000" y="152388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ust 1990: Iraqi dictator Saddam Hussein invades the small, oil-rich nation of Kuwa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ssein is given a deadline to get out of Kuwait.  He refuse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erica, backed by a large coalition, begins bombing Iraq.  The war lasts for forty days before Kuwait is libe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people thought that we should have kept fighting until we took out Sad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ke these guy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rumsfeld.jpg"/>
          <p:cNvPicPr/>
          <p:nvPr/>
        </p:nvPicPr>
        <p:blipFill>
          <a:blip r:embed="rId1"/>
          <a:stretch/>
        </p:blipFill>
        <p:spPr>
          <a:xfrm>
            <a:off x="228600" y="1295280"/>
            <a:ext cx="3897360" cy="2819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heney.jpg"/>
          <p:cNvPicPr/>
          <p:nvPr/>
        </p:nvPicPr>
        <p:blipFill>
          <a:blip r:embed="rId2"/>
          <a:stretch/>
        </p:blipFill>
        <p:spPr>
          <a:xfrm>
            <a:off x="4206960" y="3352680"/>
            <a:ext cx="4373640" cy="3124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990720" y="4495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ald Rumsf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563868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k Che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5:10:04Z</dcterms:created>
  <dc:creator>mahluma</dc:creator>
  <dc:description/>
  <dc:language>en-US</dc:language>
  <cp:lastModifiedBy>Rob</cp:lastModifiedBy>
  <dcterms:modified xsi:type="dcterms:W3CDTF">2012-05-14T06:43:26Z</dcterms:modified>
  <cp:revision>130</cp:revision>
  <dc:subject/>
  <dc:title>Slide 1</dc:title>
</cp:coreProperties>
</file>